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9D23-40B4-4436-9101-681357653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6373-E758-470D-B047-E548B41D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8FA6-55F2-4669-860D-C7B7DEA9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16E0-D67E-4ABB-B02A-A813C3AF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A3F4-E17B-442C-97CE-645B32AE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CBD5-34C0-45E3-A43A-0AB26E32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7752-6C7C-4D2A-99F0-74EF28A6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5073-413C-4B80-916B-7A3CBD68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EF9D-7BB6-4A67-B304-118DD7C5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097D-A338-47F9-A90A-DFE5178F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2DCE-A58D-4527-9DA4-59E37487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C6BD-F1B1-42A5-962A-B1AF5EC1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D958-C5F8-4F7A-9B94-FD2FBBD57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lackoak Std"/>
              </a:rPr>
              <a:t>Vocabula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ackoak Std"/>
              </a:rPr>
              <a:t>by.   Sydney Matthe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- Electronic Mail which allows individuals with an account to send messages to another person with an </a:t>
            </a:r>
            <a:r>
              <a:rPr b="0" lang="en-US" sz="2800" spc="-1" strike="noStrike">
                <a:solidFill>
                  <a:srgbClr val="000000"/>
                </a:solidFill>
                <a:latin typeface="Blackoak Std"/>
              </a:rPr>
              <a:t>e-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C- Internet relay chat was developed in 1988 by Jarkkoo  Oikarinen and allows instant online communicating with someone else who is also online by typing messages back and for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BS- Bulletin Board Service allows a user to participate in discussion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-Hypertext Transfer Protocol is used for handling the transmission of pages between a web </a:t>
            </a:r>
            <a:r>
              <a:rPr b="0" lang="en-US" sz="3200" spc="-1" strike="noStrike">
                <a:solidFill>
                  <a:srgbClr val="000000"/>
                </a:solidFill>
                <a:latin typeface="Blackoak Std"/>
              </a:rPr>
              <a:t>ser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web brow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P-File Transfer Protocol is used to rapidly Transfer Fi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net-A program used on networks such as the Internet to allow users to remotely Log on to a server on the net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pher- One of the first widespread Internet browsing Serv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net- A </a:t>
            </a:r>
            <a:r>
              <a:rPr b="0" lang="en-US" sz="3200" spc="-1" strike="noStrike">
                <a:solidFill>
                  <a:srgbClr val="000000"/>
                </a:solidFill>
                <a:latin typeface="Blackoak Std"/>
              </a:rPr>
              <a:t>net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d by a single organization and only Accessible by authorized Us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wall-A network Security System that prevents unauthorized Network A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67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71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75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net-An extended Intranet that provides Various Level of access to authorized members of the publ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</a:t>
            </a:r>
            <a:r>
              <a:rPr b="0" lang="en-US" sz="3200" spc="-1" strike="noStrike">
                <a:solidFill>
                  <a:srgbClr val="000000"/>
                </a:solidFill>
                <a:latin typeface="Blackoak Std"/>
              </a:rPr>
              <a:t>Profiling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marketing Technique that collects online data about consu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kies-Small Files that contain information about the web sites an individual has vis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net- A collection of servers that offer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dwidth-The amount of data and the speed at which the data can travel over the transmission Me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-A computer </a:t>
            </a:r>
            <a:r>
              <a:rPr b="0" lang="en-US" sz="3200" spc="-1" strike="noStrike">
                <a:solidFill>
                  <a:srgbClr val="000000"/>
                </a:solidFill>
                <a:latin typeface="Blackoak Std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cesses a server to request infor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SL-Digital Subscribe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ernet- A widely used protocol for lans that uses a bus or star </a:t>
            </a:r>
            <a:r>
              <a:rPr b="0" lang="en-US" sz="3200" spc="-1" strike="noStrike">
                <a:solidFill>
                  <a:srgbClr val="000000"/>
                </a:solidFill>
                <a:latin typeface="Blackoak Std"/>
              </a:rPr>
              <a:t>topolo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onnects the network devices by twisted pair wiring coaxial Cable, or Fiber Optic C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iquette-The Etiquette that should be followed when using a net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- A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- The logical Arrangement of the nodes on a net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reless Networks-A type </a:t>
            </a:r>
            <a:r>
              <a:rPr b="0" lang="en-US" sz="3200" spc="-1" strike="noStrike">
                <a:solidFill>
                  <a:srgbClr val="000000"/>
                </a:solidFill>
                <a:latin typeface="Blackoak Std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etwork that does not require the use of C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Interface Card- A circuit Board that goes into the base unit of a computer or other device in a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p-Internet Service Provider is company that offers access to the internet for a f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Site-A series of related Web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5:39:04Z</dcterms:created>
  <dc:creator>770765</dc:creator>
  <dc:description/>
  <dc:language>en-US</dc:language>
  <cp:lastModifiedBy>770765</cp:lastModifiedBy>
  <dcterms:modified xsi:type="dcterms:W3CDTF">2009-04-20T15:46:33Z</dcterms:modified>
  <cp:revision>3</cp:revision>
  <dc:subject/>
  <dc:title>Vocabulary 1</dc:title>
</cp:coreProperties>
</file>